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272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9800" y="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3440" y="4422600"/>
            <a:ext cx="5619600" cy="4191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4556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9800" y="884556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4CD62C-B912-4112-B566-EDB493908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03440" y="4422600"/>
            <a:ext cx="5619600" cy="4191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QSEW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CWG (made a WG at the June Meeting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redit Policy Task Forc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hadow Pricing Cap – Procedures discussed at Board’s requ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CR transition to CR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MWG – meeting moved to next day (reviewing implementation/CRE/ et al issues with 76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SWG – did not mee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03440" y="4422600"/>
            <a:ext cx="5619600" cy="4191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nce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Ramp Rate limitations when released from curtailments could cause frequency control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ext Ste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QMWG  to submit PRR addressing ramp rate limitations – ROS will consider the PRR recommendation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nce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763 communications not going to the appropriate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ext Ste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ERCOT to work with Mark Bruce et al to ensure that 763 contact list is correct – WMS asked all WIND QSE’s to work with ER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03440" y="4422600"/>
            <a:ext cx="5619600" cy="4191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CWG – created – INO will co-chair with stakeholder chair – TBD July 27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Proceedur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hange for the new working group approved by WMS – Does TAC need to vo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sions issues to be discussed and brought back to WMS in Ju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A NPRR comments should be submit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ssue of Start up cost for wind was discussed and the VCWG will bring back a propos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03440" y="4422600"/>
            <a:ext cx="5619600" cy="4191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ft NPRRs will be submitted by CPTF to address both issues.  TPTF will review the default allocation NPRR while margining CRR obligations will come to WMS for re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3440" y="4422600"/>
            <a:ext cx="5619600" cy="4191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el Mickey to prepared PRR for submission to address SPC procedures in response to Board request for clear proced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S voted to have a 2009 TCR auctions due to delay in Nodal implementation.  WMS voted for refunds for both annual and monthly TCR’s – ERCOT to come back with best methodology for Monthly ref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MW regarding 764 and other CMWG iss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A2F3-2E8D-4A52-A6B8-CFB73E89A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EB86-41CB-4C81-A4ED-501F7F0F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DCA8-A34B-4684-900C-F49BCB430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BFD6-C88C-4013-BBB4-709A43A45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23A1-D07A-4CDB-B1C4-B26190C87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535A-0714-4EEF-AFE0-FE735EC3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691F-F46D-4156-A55B-28406E01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902B-3D6A-4B13-96F8-382F7C49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8D83-B1BA-4B57-8968-E61FED64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3B2D-21DC-4F5E-8271-2059099F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8DF0-9479-46F3-BD56-0FFDBEE4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85DA-EDA6-4F67-AA6B-C7B935AC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2307-3D59-47D5-93D7-64A0E3EF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E072-A219-43DD-B740-652F9997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97456-3B42-4E73-8F85-92C2D4B6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F81A-3617-4922-841C-B4291BC4B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27E4-69CD-42F4-A82C-35BAF3B8A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B3A0-D843-4A5A-AC7D-CFEA81D6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740F-7629-421E-990B-B2B6E7E3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5243-91DC-423B-A059-0432A8F8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A21E-BD52-4974-B955-043CA9A5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F20D-EC51-4C6A-97F7-BD3C52AD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F780-0C61-4B8E-9000-7658EC4E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9A8C-202D-451D-A953-D3AAE8E8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EACD-88B1-4202-9B23-7ABAF67F57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CC8B-008C-4FB3-BD8C-E970534682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WMS Report To TA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June 26,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53C4-26B4-47E5-B675-5A0F5F3D75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In Brief</a:t>
            </a: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wo Working Group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ne Task Force Re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hadow Price Cap - proced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R 743 and 76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F4D0-492C-428F-8E1A-D69F274F48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Working Group Reports</a:t>
            </a: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QMWG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GR Ramp Rate Limita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0% not fully analyzed but QSEWG felt 10% could be supported and implemen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ore analysis requested to determine if  10% would provide adequate protection in high frequency ev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R to be submitted, ROS will submit comments and economic impact analysis critic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763 PRR - Use of WGRPP as Planned Operating Level in Day-Ahead Resource Plan for WG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ncerns expressed regarding communication issues with Wind Generators/QSEs – ERCOT to work with companies to get best contacts for 763 communication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RCOT asked to post the aggregate foreca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77C5-5A0D-4807-A633-44C0CBFAF5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Working Group Reports</a:t>
            </a: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VCWG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VCTF – WMS voted unanimously to create the VCWG to address on-going verifiable cost issu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ocess for pricing Discrete Emission Reduction Credit (DERC) for V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ollow-up call set up to discuss  - VCWG to follow up in July/Augu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iscussed exceptional events – all subject to dispu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iscussed PPA’s – VCWG will finalize Whitepaper and NPRR in Jul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PRR for PPAs as Verifiable Cost Update – please submit commen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VCWG to work through outstanding issu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dal Surchar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imeline for Submitting Verifiable Costs by Resource Typ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raining to begin shortly for V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B424-6442-49AE-90CD-599EE2B119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Task Force Reports</a:t>
            </a: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Credit Policy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raft NPRR to change default allocation reviewed and approved by WMS in concept – to be submitted for TPTF review by CPT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raft NPRR to modify adder for margining CRR Obligations – to be submitted for WMS/PRS review by CPT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5087-D4D9-4378-9944-BAAC38B0E4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Other WMS activit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Zonal Shadow Price Ca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rocedures for setting based on Board action to be drafted by ERCOT in PRR for urgent status by early Ju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CR Transition to CR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nnual and Monthly TCR auction for 200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efund annual TCR auction revenues per PRR 743 with implementation date modific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efund of TCR monthly auction revenues - WMS support refunds in best manner achievable whether daily or hourly.  ERCOT to analyze and report back to WMS in July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R 764 – Implemen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MWG review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9BAA-5370-49DF-8B48-5271131F5C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WMS Report To TA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63DE-9319-4869-9D14-BB05BEAEB7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4T16:12:36Z</dcterms:created>
  <dc:creator>bbelk</dc:creator>
  <dc:description/>
  <dc:language>en-US</dc:language>
  <cp:lastModifiedBy>bbelk</cp:lastModifiedBy>
  <dcterms:modified xsi:type="dcterms:W3CDTF">2008-06-25T19:22:27Z</dcterms:modified>
  <cp:revision>125</cp:revision>
  <dc:subject/>
  <dc:title>WMS Report TO TAC</dc:title>
</cp:coreProperties>
</file>